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B62-4F51-49AA-BFAD-8FF5E9AB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98E-C604-4990-9FDB-72EE5AB2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A83-62BE-4F17-9E09-29D2535B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B58-CD4D-4532-9FFD-55BA81D9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343C-13CA-4C0A-B69C-B7FFC6D4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CDCE-629E-413D-89A6-DB67ED14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1BE1-A07F-4C65-ADF9-91FA4365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B6B3-A803-483F-84C0-BF8BF3A4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EE9E-DA1B-420F-BFDE-A6F328C9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6540-FB78-4F58-8654-822BBCBF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D29C-3FA2-4ACE-A5C2-E1747806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437-C4FE-4017-8E0D-AE96B998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C985-C38A-4C0B-89D2-8A099ED3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679B-75A7-4BE3-8501-3E7D74B7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B091-0AB3-452E-ADC0-11AC86DC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0051-C6D5-4D89-8114-92E13F14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0060-1025-484F-B0B0-A9C8B3BB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FF0-A34F-44CD-9D59-8F68D5A0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28F-1979-40C5-88B5-9428C527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212-E99F-484F-B7F3-07BCB990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BF2-4E4F-4827-A802-F3E8DA5A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B3D-F3F9-46D5-BC5F-F83DCBA9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000-2745-46E2-842C-5B47F3D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CC1-46F5-407D-A6F2-861FEADF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A978-56D8-4EF3-B4E9-3C074704C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A1B9-A291-4072-AD3F-8DC0D7BE2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3980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 1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merican Ident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oad to Independe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 3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w American Ident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 4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velopment of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Co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1680"/>
            <a:ext cx="7081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iddl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Y, PA, NJ,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griculture,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D, VA, NC, SC,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rge-scale Agricul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la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Self Government (Govern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Colonial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rcanti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axes (why?) Statutory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Quartering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mp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oston Mass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axation without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clamation Act of 17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3840" y="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99520" y="282600"/>
            <a:ext cx="5752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Pro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ston Te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omas Paine; Comm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ovement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inental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claration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urpose of 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sent of the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evolutionary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“Shot heard round the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ty of Paris 17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ain Point/Sum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835920" y="228600"/>
            <a:ext cx="8463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3: New American Ident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-up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: NH, Coverted Ch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: Articles of Con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First Constitution Ra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Accomplis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W Ordinance of 17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en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regulat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single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national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Hard to amend/fix/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Shay’s Rebe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87440" y="282600"/>
            <a:ext cx="7894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New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hiladelphia Convention/Constitutional Con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legates, e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orge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irgini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cameral;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w Jerse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nicameral; Eq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reat/Connecticut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ca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use;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;Eq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lav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ree-Fifths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9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480" y="263520"/>
            <a:ext cx="471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d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-Fed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ajority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Main Point/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987480" y="0"/>
            <a:ext cx="10941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4: Development of the Constitu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ressed v. Reserved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eau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oral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Necessary &amp; Proper Clause (E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I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II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V-VII Other issues (IV-Supremacy Cl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7320" y="262080"/>
            <a:ext cx="7009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-10 Bill of Rights, 11-27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2/3 approval to ac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rict v. L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mplied v. Ex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Right to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ule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veryone must follow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eparation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ree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hecks &amp;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mite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453240" y="304920"/>
            <a:ext cx="10103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Fede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pressed/Enum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age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upre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irst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ligion, Assembly, Press, Petition,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ens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John Peter Z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lander, Libel,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04920"/>
            <a:ext cx="2971800" cy="3429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3080" y="533520"/>
            <a:ext cx="702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2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Bear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Quartering of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arch &amp;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u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lf Incr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uble Jeop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minen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Rights of the Ac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Rights in civil cases; Jury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Cruel &amp; Unusual Punishment; B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Rights reserved to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Rights reserved to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ummary/Main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81320" y="301680"/>
            <a:ext cx="666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. Amendments 1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Limits on suits again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Presidential Ele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ivil War Amend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Abolishe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Citizenship &amp; Equ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African-America righ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Progressive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Election of Senators b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Women’s righ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376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067040" y="133200"/>
            <a:ext cx="102538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: American 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Study of the rights and duties of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articipant’s right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Ruling authority for a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Keep order,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Publi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Guid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orn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ur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iens &amp; 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ivil Right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mmunity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Loss of 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aud or d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son,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440" y="320760"/>
            <a:ext cx="597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Lame Duck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. Repeal 18th;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 Presidents limited to two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. Washington D.C. gets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 Elimination of the poll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 Presidenti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. 18 y.o. vo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. Congressional salary pay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. Civil Rights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13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iscrimination/Segre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ffirmative Action/Racial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I. 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880" y="304920"/>
            <a:ext cx="6534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Freedom of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. “Ignorance is no excu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conomic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arc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formed Citiz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ther type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ctatorship/Authorit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ivic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379440" y="228600"/>
            <a:ext cx="887004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ld 1600-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urop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f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w 1900-2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t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rvic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ast-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uth-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rth-S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atriotism,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mmon Goals: Against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4120" y="1219320"/>
            <a:ext cx="832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colonies were sett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dividuals from many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theless, the majority of American settl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from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rights that American citizens enjo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raced to the political and legal traditions of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glish people began settling in the Americ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rought with them a tradition of lim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presentativ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4760" y="4381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Reading! Read Careful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80880"/>
            <a:ext cx="51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49480" y="246240"/>
            <a:ext cx="7547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2: Road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s of America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nglish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Magna C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John Lo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Natura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Commo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ocial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Separation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el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Limi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525600"/>
            <a:ext cx="8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00" y="3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7200" y="506520"/>
            <a:ext cx="619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The First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Jamestown 16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wn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Virginia House of Burg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ayflower 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ilgrims/Purit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yflower Co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ligious Pers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riangular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ive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New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, RI, NH, 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wns,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386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00:24:39Z</dcterms:created>
  <dc:creator>Chatham County</dc:creator>
  <dc:description/>
  <dc:language>en-US</dc:language>
  <cp:lastModifiedBy>Chatham County</cp:lastModifiedBy>
  <cp:lastPrinted>2010-08-31T16:07:59Z</cp:lastPrinted>
  <dcterms:modified xsi:type="dcterms:W3CDTF">2010-09-02T12:36:49Z</dcterms:modified>
  <cp:revision>7</cp:revision>
  <dc:subject/>
  <dc:title>Citizenship &amp; Democracy U.S. History-1789</dc:title>
</cp:coreProperties>
</file>